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7D8B-CA61-440B-826D-0C18D4F1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D74-7150-4FBE-90C1-7351ACD3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B8EE-EE90-49D4-9C18-1786DE8D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8E1-18AE-47AC-AD10-894AD3FD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15DE-6337-47AE-90F4-D8159DA2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D204-BF5E-4CF6-AF8A-3D68DF46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5607-1F59-4FAC-AAAA-EBDC53B4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DAD5-D394-45FA-A0D6-B6A773CA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EF4C-D75B-4198-8C38-E6D4393B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C356-3735-484B-8154-02F27C5A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DE5B-6C14-441E-B801-5AEF01EA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7F0-26BF-4E25-AF73-88C71EF6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A28B-7049-4223-B309-443EB250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991E-11CE-4EA7-8670-AFE67ECB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A14D-E20C-4B29-BA44-C46AC9FC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D2D4-1295-4485-A7B3-F9CABAE6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6D8D-5EFF-423A-88D9-27638871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9F88-86CA-4A1E-A173-5D460AA3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CDBD-191A-4666-B8E2-ECD54AF6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B296-3BA1-46F2-B704-4E19CFCF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882-7097-4A8C-96A9-204A83E4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DEC2-B814-44B7-A8E9-6EF2A65D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F83-AC52-4C5D-8FDF-40932AB8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ADA-FFFF-43CE-BE69-C349118B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0599-9BB7-4AE9-9775-D3A1CDD168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D8AC-01C3-464F-B95E-2E7FB73E61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G-RSM CVS System at ECPC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deki Kanama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ripps Institution of Ocean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nual RSM Worksh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uly 2006, 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Regional Domai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m/def/rsm6228r545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grd, jgrd, cigrd, cjg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grd has to be a product of integer powers of 2, 3, and 5. On IBM, integer power for 3 cannot be more than 2. jgrd has to be an odd number. cigrd and jgrd are coarse resolution regional file paramters for cr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PROJ, RTRUTH, RORIENT, RDELX, RDELY, RCENLAT, RCENLON, RLFTGRD, RBTMG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libs/etc/prmap to choose a doma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Utility Programs in libs/etc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: returns date of sigma and surface fi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hou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e_date_grib: change the date in grib files (r_pgb.ftxx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map: creates ctl file for GrADs from r_pgb.ftx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mean: creates average of r_pgb.ftx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dte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hou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d: returns julian day fr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map: used for choosing the domain. reads igrd and jgrd in rsm/define.h and domain paramters in rsm/rsim script and creates prmap.ctl which is opened in GrADs for displa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nput Files (for RSM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ail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lob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iles from the data server at EC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-hourly R1 (NCEP/NCAR Reanalysis): r1/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-hourly R2 (NCEP/DOE Reanalysis): r2/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ly sst.grib: sfcanl/ direc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ly ice.grib: sfcanl/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ftp dataman@tsuzumi.ucsd.edu (password: data_e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nput Files (for CRSM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ailable coarser resolu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iles from ecpc.ucsd.edu (Jack Richi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stomized sub-domain data from GSM forecasts initialized by NCEP daily operation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a binary r_sig files and then use scnvrt and r_inpg to interpolate them to the target regional gr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ther Input Fi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supported, but it should not be too difficult: ERA-40 Reanalysis, NCEP daily operational analysi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bs/etc/scnvrt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s/runscr/r_inpg: interpolation (both horizontal and vertic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peri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SM (use networked machine): use R1 files as boundary conditions; run rsm script for testing; run rsim script for 2002 Nov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r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downloading files from ECP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SM (use non-networked machine): use Jack’s GSM output (L18) over Vietnam; run csim script at L18 for 2006 July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ime allows – run RSM with rsim script for 2002 Nov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r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 Vietnam and run CRSM with the output and csim 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nstall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ll CVS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nongnu.org/cvs/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 and Fortran compilers required (we usually use portland group compilers on Linux machin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environmental variable CVSROOT (e.g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env CVSROOT :pserver:anoncvs@rokka.ucsd.ed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rokka1/kana/cvs-server-root/cpsc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nstall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$ cvs co Install [Note Capital “I”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will get “inst” and “install” scripts. “inst” is a wrapper script that calls “install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/inst [model version] [topography option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model version] rsm_frozen, rsm_latest, crsm_frozen, gsm_frozen, gsm_latest, scm_lat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topography option] hi (use 30 seconds gtopo30 topography) or lo (use 4minutes topography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nstall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aller will ask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ch model [rsm/gsm/crsm/sc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chine architecture [single/thread/mpi/hybri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itution [ecpc/sdsc/ncar, etc] choose ecpc if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chine name [ibmsp/dec/cray/intel/linux, et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resolution [e.g. T62L28 r54x55, T62L28 r8167c5487] you have to create resolution definition files in rsm/def if you want to define your own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ch script [rsm/rsim/csim, etc] rsm is for testing purpose (48hours integration). rsim is for downscaling with global files. csim is for crsm (c2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nstall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choose to use “install” scrip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/install --model=[rsm/gsm/crsm/scm] --version=[…] --enable-[numerous options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osu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noa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cldw-zc : Zhao-Carr cloud water sche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cldw-sy3n: Song-You Hong cloud water sche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cldw-sy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cldw-sy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sas: SA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ccmcnv: NCAR CCM3 Zhang McFarlane conv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enable-baseout: post processed basefield output (r_bpgb.ftxx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CVS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vs co [module_name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vs update [file_name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vs diff [file_name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vs log [file_name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use options such as –r (version), -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Model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bs : library, utilities, independent of model resolution but machine depen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m (or crsm): source codes and binaries, model resolution depen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rsm/def/rsm6228r545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s: run scri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s/runscr: run scripts called by rsm/rsim/cs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s/expscr: templates for rsm/rsim/cs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Building the model without install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libs, $ configure-lib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r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edit rsm/def/physics.h, misc.h, debug.h, diag.h to change model options such as KF2 (Kain Fritsch convection) that is not supported by --enable-xxx with installer scrip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$ configure-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runs, $ configure-scr [rsm/rsim/csim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Other things to note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stacksize to unlimited, otherwise rmtn.x fai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20:55:00Z</dcterms:created>
  <dc:creator>KANAMARU Hideki</dc:creator>
  <dc:description/>
  <dc:language>en-US</dc:language>
  <cp:lastModifiedBy>KANAMARU Hideki</cp:lastModifiedBy>
  <dcterms:modified xsi:type="dcterms:W3CDTF">2006-07-20T21:38:52Z</dcterms:modified>
  <cp:revision>83</cp:revision>
  <dc:subject/>
  <dc:title>G-RSM System at ECPC</dc:title>
</cp:coreProperties>
</file>